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B28373-5ED1-4325-9A03-F4F852678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068AC8-764E-4AC3-8CDC-B7E21D331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831B77-6F66-42AA-ABC9-BEB67D699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55A7AD-3CDF-4128-8DFF-C73E0462C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C20236-9A93-4E62-B46E-BD7F3D988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7F7C19-D972-4CDC-BCF8-F97C05C76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38CC70-38A9-4846-A7B4-514426982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BDE45F-0E7F-4F37-9334-4CB5B2ED7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7F42BB-F29B-48E9-BD3D-225A3DDED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776746-2071-4F0A-BCC1-428A45BE9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59979A-4BB4-4B06-AD7D-496F31AE7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75564B-CDEE-4163-9BDE-5F6F06A5B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F15A09-F876-4620-B027-E042FC77E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F23B53-DEAE-4631-AA46-4714A7B7B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E10346-992D-49D3-AE05-F9013D115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21C7DF-80EA-4EFE-890E-DF5C59CCA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72EE80-C046-481F-A790-B5F4BDD6A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E40AAD-267B-4EE1-BC51-15ABD14E3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A8490C-B65E-4813-969A-30EA16DF6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C2E294-EB51-4FC0-B4FC-F1C5F6B43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540B37-6BB0-49BA-B5B5-EAAB488E2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1CBF9C-2AF3-48D6-B3D6-66052FCA9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96FF0A-E5A9-4DD0-9964-80BFE25AD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218BF2-7FF8-4B8B-B6C4-A3D895449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C23562-DAD1-46BB-87CF-6114F3B4B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C6B4A3-3A39-47D9-A884-F305BA900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0DE071-DF7D-4F87-8F6B-00DD43C84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D73249-ADB1-45E9-A6FE-0F08E77BA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08E841-D176-470B-BA53-1BBB3EB8D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F3EFE1-AFB2-4ED3-872A-51DFFD557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58B14B-825C-422E-82B1-B19C2ECE1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4759D8-9006-4494-BA07-86CDD7619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F054D6-428B-4C20-B237-4F2D6E6C5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807496-3778-49BB-82A8-C50E717C7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8A9C5A-6E8D-43D0-B007-BD87655CE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C1985C-7B62-41B9-BFED-DFECE215D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304B2D-F973-4F37-803B-417968C8B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14.</a:t>
            </a:r>
            <a:fld id="{FFD69520-EDCC-4B23-A37D-05B87D527DF8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900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>
              <a:gd name="textAreaLeft" fmla="*/ 0 w 227160"/>
              <a:gd name="textAreaRight" fmla="*/ 227160 w 2271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4: Transa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t Execu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001880"/>
            <a:ext cx="6910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ransactions are allowed to run concurrently in the system.  Advantag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processor and disk ut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ading to bett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ne transaction can be using the CPU while another is reading from or writing to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average respons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ransactions: short transactions need not wait behind long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cy control schem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echanisms  to achieve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to control the interaction among the concurrent transactions in order to prevent them from destroying the consistency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tudy in Chapter 15, after studying notion of correctness of concurrent exec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8960" y="1106280"/>
            <a:ext cx="72756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sequences of instructions that specify the chronological order in which instructions of concurrent transactions ar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for a set of transactions must consist of all instructions of thos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eserve the order in which the instructions appear in each individual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successfully completes its execution will hav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s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 transaction assumed to execute commit instruction as its la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fails to successfully complete its execution will have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4556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fer $50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fer 10% of the balance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xample of a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in whi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"/>
          <p:cNvPicPr/>
          <p:nvPr/>
        </p:nvPicPr>
        <p:blipFill>
          <a:blip r:embed="rId1"/>
          <a:stretch/>
        </p:blipFill>
        <p:spPr>
          <a:xfrm>
            <a:off x="3027240" y="2063880"/>
            <a:ext cx="2932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4556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in whi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1"/>
          <a:stretch/>
        </p:blipFill>
        <p:spPr>
          <a:xfrm>
            <a:off x="2916360" y="1763640"/>
            <a:ext cx="2678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76584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the transactions defined previousl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he following schedule is not a serial schedule, but it i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quivalen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chedule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170000" y="5472000"/>
            <a:ext cx="6724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-- In schedules 1, 2 and 3, the sum “A + B” is preser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"/>
          <p:cNvPicPr/>
          <p:nvPr/>
        </p:nvPicPr>
        <p:blipFill>
          <a:blip r:embed="rId1"/>
          <a:stretch/>
        </p:blipFill>
        <p:spPr>
          <a:xfrm>
            <a:off x="3138480" y="1803240"/>
            <a:ext cx="27162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213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concurrent schedule does not preserve the sum  of  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"/>
          <p:cNvPicPr/>
          <p:nvPr/>
        </p:nvPicPr>
        <p:blipFill>
          <a:blip r:embed="rId1"/>
          <a:stretch/>
        </p:blipFill>
        <p:spPr>
          <a:xfrm>
            <a:off x="2913120" y="1974960"/>
            <a:ext cx="29019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02840" y="1157040"/>
            <a:ext cx="691524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Assu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ch transaction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serial execution of a set of transactions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possibly concurrent) schedule is serializable if it is equivalent to a serial schedule.  Different forms of schedule equivalence give rise to the notion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mplified view of 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5040" y="844200"/>
            <a:ext cx="67611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ignore operations other th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that transactions may perform arbitrary computations on data in local buffers in between reads and writ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implified schedules consist of on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ing Instru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1470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 two Instructions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.  Instruction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nd only if there exists some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ed by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t least one of these instructions wro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3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They confli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4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vely, a conflict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 (logical) temporal order between th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secutive in a schedule and they do not conflict, their results would remain the same even if they had been interchanged in the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6800" y="1179360"/>
            <a:ext cx="636588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ansformed into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series of swaps of non-conflicting instructions, we say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equival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y that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 is conflict equivalent to a ser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564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Definition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for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189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11360"/>
                <a:tab algn="l" pos="326232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3 can be transformed into Schedule 6 -- a serial schedule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low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y a series of swaps of non-conflicting instructions.  Therefore, Schedule 3 is conflict serializ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083320" y="5059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986800" y="50785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"/>
          <p:cNvPicPr/>
          <p:nvPr/>
        </p:nvPicPr>
        <p:blipFill>
          <a:blip r:embed="rId1"/>
          <a:stretch/>
        </p:blipFill>
        <p:spPr>
          <a:xfrm>
            <a:off x="1368360" y="2181240"/>
            <a:ext cx="3092400" cy="2505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"/>
          <p:cNvPicPr/>
          <p:nvPr/>
        </p:nvPicPr>
        <p:blipFill>
          <a:blip r:embed="rId2"/>
          <a:stretch/>
        </p:blipFill>
        <p:spPr>
          <a:xfrm>
            <a:off x="4911840" y="2182680"/>
            <a:ext cx="3319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727200"/>
            <a:ext cx="69976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schedule that is not conflict serializable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unable to swap instructions in the above schedule to obtain eithe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, o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2327400" y="1604880"/>
            <a:ext cx="3916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ecedence Grap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1840" y="1093320"/>
            <a:ext cx="67960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ome schedule of a set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cedence grap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a direct graph where the vertices are the transactions (n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raw an arc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wo transaction conflic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ed the data item on which the conflict arose ear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ay label the arc by the item that was ac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"/>
          <a:stretch/>
        </p:blipFill>
        <p:spPr>
          <a:xfrm>
            <a:off x="3317760" y="4000680"/>
            <a:ext cx="25894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43120" y="117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for Conflict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3840" y="1106640"/>
            <a:ext cx="50972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chedule is conflict serializable if and only if its precedence graph is acyc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-detection algorithms exist which take ord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ime,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number of vertices in the graph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etter algorithms take ord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number of edge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recedence graph is acyclic, the serializability order can be obtained by a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topological sor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grap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s, a linear order consistent with the partial order of the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a serializability order for the schedule (a)  would be one of either (b) or (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6113520" y="1209600"/>
            <a:ext cx="26305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verable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158480"/>
            <a:ext cx="70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coverable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if a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ads a data item previously written by a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n the commit operation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ear before the commit operation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schedule is not recoverable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s immediately after the read(A) ope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ould abort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uld have read (and possibly shown to the user) an inconsistent database state.  Hence, database must ensure that schedules are recover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3052800" y="2705040"/>
            <a:ext cx="303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ing Rollba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16904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ing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single transaction failure leads to a series of transaction rollbacks.  Consider the following schedule where none of the transactions has yet committed (so the schedule is recoverable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il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lso be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the undoing of a significant amount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"/>
          <p:cNvPicPr/>
          <p:nvPr/>
        </p:nvPicPr>
        <p:blipFill>
          <a:blip r:embed="rId1"/>
          <a:stretch/>
        </p:blipFill>
        <p:spPr>
          <a:xfrm>
            <a:off x="2212920" y="2425680"/>
            <a:ext cx="3807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eless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56960" y="1222200"/>
            <a:ext cx="70801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eless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for each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ads a data item previously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ommit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s before the read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ascadeless schedule is also re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esirable to restrict the schedules to those that are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 a schedule that is NOT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1"/>
          <a:stretch/>
        </p:blipFill>
        <p:spPr>
          <a:xfrm>
            <a:off x="2274840" y="3697200"/>
            <a:ext cx="3807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38160" y="1106640"/>
            <a:ext cx="750888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must provide a mechanism that will ensure that all possible schedules are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serializ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able and preferably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licy in which only one transaction can execute at a time generates serial schedules, but provides a poor degree of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-control schemes tradeoff between the amount of concurrency they allow and the amount of overhead that they in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schedule for serializabil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has executed is a little too la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 for serializability help us understand why a concurrency control protocol is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o develop concurrency control protocols that will assure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57160" y="1150920"/>
            <a:ext cx="71820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pplications are willing to live with weak levels of consistency, allowing schedules that are not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 read-only transaction that wants to get an approximate total balance of all accou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database statistics computed for query optimization can be approximate (wh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ransactions need not be serializable with respect to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off accuracy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Consistency in SQL-9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257960" cy="51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iza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eatable 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committed records to be read, repeated reads of same record must return same value.  However, a transaction may not be serializable – it may find some records inserted by a transaction but not find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 committ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committed records can be read, but successive reads of record may return different (but committed)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 uncommit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uncommitted records may be re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839880" y="3506760"/>
            <a:ext cx="74833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degrees of consistency useful for gathering approxim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about the 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: some database systems do not ensure serializable schedules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Oracle and PostgreSQL by default support a level of consistency called snapshot isolation (not part of the SQL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Concep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0740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rogram execution that accesses and  possibly updates various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ransaction to transfer $50 from account A to account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in issues to deal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of various kinds, such as hardware failures and system cr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 of multipl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Defini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95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anipulation language must include a construct for specifying the set of actions that comprise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, a transaction begins im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n SQL ends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its current transaction and begins a new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back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current transaction to ab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all database systems, by default, every SQL statement also commits implicitly if it executes success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commit can be turned off by a database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n JDBC, connection.setAutoCommit(fa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7880" y="26589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Notions of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00080" y="1206360"/>
            <a:ext cx="69120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two schedules with the same set of transactions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iew equivalen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ollowing three conditions are met, for each data ite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 schedule S,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s the initial valu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n in schedu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so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read the initial valu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 schedule S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that value was produced by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any), then in schedu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so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read the valu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was produced by the sam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) operation of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ransaction (if any) that performs the fina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operation in schedu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also perform the fina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operation in schedu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can be seen, view equivalence is also based purely 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26800" y="1106280"/>
            <a:ext cx="70405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chedu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iew serializabl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t is view equivalent to a serial sched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conflict serializable schedule is also view serializ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w is a schedule which is view-serializable bu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lict serializabl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erial schedule is above equivalent 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view serializable schedule that is not conflict serializable ha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lind wri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New PDF from Images Output-1.pdf"/>
          <p:cNvPicPr/>
          <p:nvPr/>
        </p:nvPicPr>
        <p:blipFill>
          <a:blip r:embed="rId1"/>
          <a:stretch/>
        </p:blipFill>
        <p:spPr>
          <a:xfrm>
            <a:off x="2608200" y="2717640"/>
            <a:ext cx="35416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View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10664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ecedence graph test for conflict serializability cannot be used directly to test for view serializa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 to test for view serializability has cost exponential in the size of the precedence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blem of checking if a schedule is view serializable falls in the class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mplete probl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existence of an efficient algorithm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xtreme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lik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 ,practical algorithms that just check som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view serializability can still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Complex Notions of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77480" y="1131480"/>
            <a:ext cx="700092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edule below produces the same outcome as the serial schedule &lt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, yet is not conflict equivalent or view equivalent to 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e start with A = 1000 and B = 2000, the final result is 960 and 20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such equivalence requires analysis of operations other than read and wr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1"/>
          <a:stretch/>
        </p:blipFill>
        <p:spPr>
          <a:xfrm>
            <a:off x="3122640" y="1871640"/>
            <a:ext cx="2754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1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quired  Properties of a Trans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389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a transaction to transfer $50 from account A to account 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tomic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transaction fails after step 3 and before step 6, money will be “lost” leading to an inconsistent databas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could be due to software or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ystem should ensure that updates of a partially executed transaction are not reflected in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urabil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once the user has been notified that the transaction has completed (i.e., the transfer of the $50 has taken place), the updates to the database by the transaction must persist even if there are software or hardware fail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117360"/>
            <a:ext cx="8375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Properties of a Transaction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2960" y="1149480"/>
            <a:ext cx="72468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istency requir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bove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um of A and B is unchanged by the execution of the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consistency requirements inclu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ly specified integrity constraints such as primary keys and foreign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it integrit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sum of balances of all accounts, minus sum of loan amounts must equal value of cash-in-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ansaction, when starting to execute,  must see a consistent datab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transaction execution the database may be temporarily inconsis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transaction completes successfully the database must be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neous transaction logic can lead to in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Properties of a Transaction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137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solation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if between steps 3 and 6 (of the fund transfer transaction) , another transacti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llowed to access the partially updated database, it will see an inconsistent database (the sum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be less than it should b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1                                       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read(A), read(B), print(A+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 can be ensured trivially by running transaction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s, one after the other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executing multiple transactions concurrently has significant benefits, as we will see l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ID Propert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080800"/>
            <a:ext cx="78724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 all operations of the transaction are properly reflected in the database or non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is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ecution of a transaction in isolation preserves the consistency 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so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though multiple transactions may execute concurrently, each transaction must be unaware of other concurrently executing transactions.  Intermediate transaction results must be hidden from other concurrently executed transac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for every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ppear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ed execution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execution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ur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transaction completes successfully, the changes it has made to the database persist, even if there are system fail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901800" y="1106280"/>
            <a:ext cx="824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unit of program execution that accesses and possibly updates various data items. To preserve the integrity of data the database system must ens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tat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106280"/>
            <a:ext cx="7493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state; the transaction stays in this state while it is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ally 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final statement has been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il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discovery that normal execution can no longer pro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the transaction has been rolled back and the database restored to its state prior to the start of the transaction.  Two options after it has been abor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only if no internal logical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successful comple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tat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1677960" y="1593720"/>
            <a:ext cx="54529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3Z</dcterms:created>
  <dc:creator>Marilyn Turnamian</dc:creator>
  <dc:description/>
  <dc:language>en-US</dc:language>
  <cp:lastModifiedBy>Silberschatz, Avi</cp:lastModifiedBy>
  <cp:lastPrinted>1999-06-28T19:27:31Z</cp:lastPrinted>
  <dcterms:modified xsi:type="dcterms:W3CDTF">2017-11-15T19:40:25Z</dcterms:modified>
  <cp:revision>592</cp:revision>
  <dc:subject/>
  <dc:title>Chapter 7:  Relational Database Design</dc:title>
</cp:coreProperties>
</file>